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7FB1-3471-4A12-BD21-2CFEA2493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406E-8F14-424A-9ECF-A10BFA61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261B-6D28-4DC5-9B61-CFCF7B1C8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AC76-D250-408E-8E83-D4387D55A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C95D-8FEF-4185-A552-4EB953C0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6BEE-0308-431B-BDA9-79D8558D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0232-97FF-4103-9A4E-3081617C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0186-DC92-4145-BC21-E83FA7A5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9DC2-04E3-47FE-846B-A76C473C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5299-9FFA-4960-97B1-3266C4DC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A48A-8EC6-4FF8-89B8-36B70FD6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8AAA-3686-4180-AF88-19E0842A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AEA7DF-F5B8-420C-8820-B26CB33995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baseball_2.jpg"/>
          <p:cNvPicPr/>
          <p:nvPr/>
        </p:nvPicPr>
        <p:blipFill>
          <a:blip r:embed="rId1"/>
          <a:stretch/>
        </p:blipFill>
        <p:spPr>
          <a:xfrm>
            <a:off x="2725560" y="1074600"/>
            <a:ext cx="4511880" cy="452628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200240" y="1074600"/>
            <a:ext cx="659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Geneva"/>
              </a:rPr>
              <a:t>Baseball of the 1950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2000160" y="2065320"/>
            <a:ext cx="5237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neva"/>
              </a:rPr>
              <a:t>By: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neva"/>
              </a:rPr>
              <a:t>Jordan Cosgrove, Shelbie Curtis, and Jon Killo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495680" y="2743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800000"/>
                </a:solidFill>
                <a:uFillTx/>
                <a:latin typeface="Papyrus"/>
              </a:rPr>
              <a:t>Decades AL MV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274680"/>
            <a:ext cx="403848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il Rizzuto - 19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gi Berra - 195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bby Shantz - 195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 Rosen - 195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gi Berra - 195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gi Berra - 195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key Mantle - 195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key Mantle - 195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ckie Jensen - 195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llie Fox - 195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Content Placeholder 4" descr="yogs2.gif"/>
          <p:cNvPicPr/>
          <p:nvPr/>
        </p:nvPicPr>
        <p:blipFill>
          <a:blip r:embed="rId1"/>
          <a:srcRect l="-6979" t="0" r="-6979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/>
          <p:cNvSpPr/>
          <p:nvPr/>
        </p:nvSpPr>
        <p:spPr>
          <a:xfrm>
            <a:off x="5062680" y="5705640"/>
            <a:ext cx="33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Calibri"/>
              </a:rPr>
              <a:t>Yogi Ber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800000"/>
                </a:solidFill>
                <a:uFillTx/>
                <a:latin typeface="Papyrus"/>
              </a:rPr>
              <a:t>Interesting Things of the Deca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4" descr="baseball-nite.jpg"/>
          <p:cNvPicPr/>
          <p:nvPr/>
        </p:nvPicPr>
        <p:blipFill>
          <a:blip r:embed="rId1"/>
          <a:srcRect l="-10617" t="0" r="-10617" b="0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648320" y="274680"/>
            <a:ext cx="403848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 u="sng">
                <a:solidFill>
                  <a:srgbClr val="800000"/>
                </a:solidFill>
                <a:uFillTx/>
                <a:latin typeface="Calibri"/>
              </a:rPr>
              <a:t>19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Connie Mack reti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First “Opening Night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TV provides $2.3mill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 u="sng">
                <a:solidFill>
                  <a:srgbClr val="800000"/>
                </a:solidFill>
                <a:uFillTx/>
                <a:latin typeface="Calibri"/>
              </a:rPr>
              <a:t>1951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Bob Fell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Bob Niem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Cleveland: three 20 game wi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 u="sng">
                <a:solidFill>
                  <a:srgbClr val="800000"/>
                </a:solidFill>
                <a:uFillTx/>
                <a:latin typeface="Calibri"/>
              </a:rPr>
              <a:t>195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Pirates loose 112 gam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Fred Hutchinson is team mana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Joe Blac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931160" y="574848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800000"/>
                </a:solidFill>
                <a:uFillTx/>
                <a:latin typeface="Papyrus"/>
              </a:rPr>
              <a:t>Interesting Things of the Deca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4" descr="200px-ElstonHoward_09.jpg"/>
          <p:cNvPicPr/>
          <p:nvPr/>
        </p:nvPicPr>
        <p:blipFill>
          <a:blip r:embed="rId1"/>
          <a:srcRect l="-18470" t="0" r="-18470" b="0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648320" y="274680"/>
            <a:ext cx="403848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Calibri"/>
              </a:rPr>
              <a:t>195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Vic Janowic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Calibri"/>
              </a:rPr>
              <a:t>195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no longer allowed to leave gloves on fie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sacrifice fly ru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18 player swa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Calibri"/>
              </a:rPr>
              <a:t>195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first African American player for Yank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Calibri"/>
              </a:rPr>
              <a:t>195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Reds vs Milwauk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1112760" y="57056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Calibri"/>
              </a:rPr>
              <a:t>Elston How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693200" y="5519880"/>
            <a:ext cx="1212840" cy="12128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800000"/>
                </a:solidFill>
                <a:uFillTx/>
                <a:latin typeface="Papyrus"/>
              </a:rPr>
              <a:t>Interesting Things of the Deca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Content Placeholder 4" descr="roycampanella1.jpg"/>
          <p:cNvPicPr/>
          <p:nvPr/>
        </p:nvPicPr>
        <p:blipFill>
          <a:blip r:embed="rId1"/>
          <a:srcRect l="0" t="-20606" r="0" b="-20606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648320" y="274680"/>
            <a:ext cx="403848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 u="sng">
                <a:solidFill>
                  <a:srgbClr val="800000"/>
                </a:solidFill>
                <a:uFillTx/>
                <a:latin typeface="Calibri"/>
              </a:rPr>
              <a:t>1957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Giants and Dodgers final ga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 u="sng">
                <a:solidFill>
                  <a:srgbClr val="800000"/>
                </a:solidFill>
                <a:uFillTx/>
                <a:latin typeface="Calibri"/>
              </a:rPr>
              <a:t>195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Giants and Dodgers mo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Roy Campanella paralyz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old Glove sele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Reds make 100 err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 u="sng">
                <a:solidFill>
                  <a:srgbClr val="800000"/>
                </a:solidFill>
                <a:uFillTx/>
                <a:latin typeface="Calibri"/>
              </a:rPr>
              <a:t>1959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Two all star gam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Ex player becomes AL presid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457200" y="496584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Roy Campanel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748640" y="5656320"/>
            <a:ext cx="938160" cy="938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 u="sng">
                <a:solidFill>
                  <a:srgbClr val="800000"/>
                </a:solidFill>
                <a:uFillTx/>
                <a:latin typeface="Papyrus"/>
              </a:rPr>
              <a:t>Baseball: Where It Came Fr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d on and English game called Roun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wnball”, “Base”, Baseb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all towns formed te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ubs formed in c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rtwright made list of r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st game in 184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ion Association of Base Ball Players formed in 185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9" descr="Alexander_Cartwright_Baseball.jpg"/>
          <p:cNvPicPr/>
          <p:nvPr/>
        </p:nvPicPr>
        <p:blipFill>
          <a:blip r:embed="rId1"/>
          <a:srcRect l="-22648" t="0" r="-22648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TextBox 10"/>
          <p:cNvSpPr/>
          <p:nvPr/>
        </p:nvSpPr>
        <p:spPr>
          <a:xfrm>
            <a:off x="5270400" y="5670720"/>
            <a:ext cx="280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Alexander Cartwr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495680" y="2209680"/>
          <a:ext cx="636840" cy="636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2209680"/>
                    <a:ext cx="63684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 u="sng">
                <a:solidFill>
                  <a:srgbClr val="800000"/>
                </a:solidFill>
                <a:uFillTx/>
                <a:latin typeface="Papyrus"/>
              </a:rPr>
              <a:t>Lets Play Ball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4" descr="wpecmF.jpg"/>
          <p:cNvPicPr/>
          <p:nvPr/>
        </p:nvPicPr>
        <p:blipFill>
          <a:blip r:embed="rId1"/>
          <a:srcRect l="0" t="-6124" r="0" b="-6124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ade full or enormous social and cultural changes; baseball reflected and illustrated these chan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jor league in Northeast and Midw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games decade involved the most fundamental, startling and dynamic change of any in hist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7200" y="5688000"/>
            <a:ext cx="874800" cy="874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 u="sng">
                <a:solidFill>
                  <a:srgbClr val="800000"/>
                </a:solidFill>
                <a:uFillTx/>
                <a:latin typeface="Papyrus"/>
              </a:rPr>
              <a:t>Race in Baseb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jority of racially inspiring events took place in the 1950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949 only 3 teams had players of co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950 only nine players of co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960 total of 52 players of co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4" descr="jackierobinsonlg.jpg"/>
          <p:cNvPicPr/>
          <p:nvPr/>
        </p:nvPicPr>
        <p:blipFill>
          <a:blip r:embed="rId1"/>
          <a:srcRect l="0" t="-664" r="0" b="-664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4648320" y="56707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Calibri"/>
              </a:rPr>
              <a:t>Jackie Robin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425680" y="5670720"/>
            <a:ext cx="719280" cy="718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10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800000"/>
                </a:solidFill>
                <a:uFillTx/>
                <a:latin typeface="Papyrus"/>
              </a:rPr>
              <a:t>Where Things Were Locate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11" descr="bb3.jpg"/>
          <p:cNvPicPr/>
          <p:nvPr/>
        </p:nvPicPr>
        <p:blipFill>
          <a:blip r:embed="rId1"/>
          <a:srcRect l="-5682" t="0" r="-5682" b="0"/>
          <a:stretch/>
        </p:blipFill>
        <p:spPr>
          <a:xfrm>
            <a:off x="457200" y="1600200"/>
            <a:ext cx="310824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3792240" y="274680"/>
            <a:ext cx="48942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ntering 1950s no major league franchise had mov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efore decade was over over a third of franchise had moved over the count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LB went nationwide for the first ti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383600" y="5619600"/>
            <a:ext cx="1011240" cy="1011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88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800000"/>
                </a:solidFill>
                <a:uFillTx/>
                <a:latin typeface="Papyrus"/>
              </a:rPr>
              <a:t>Technology in Basebal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6" descr="C102Jetliner.jpg"/>
          <p:cNvPicPr/>
          <p:nvPr/>
        </p:nvPicPr>
        <p:blipFill>
          <a:blip r:embed="rId1"/>
          <a:srcRect l="0" t="-27507" r="0" b="-27507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5340240" y="274680"/>
            <a:ext cx="334656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ir Jet transpor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allation of lights in fiel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m travel went from trains to j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veling to parks by c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mes were now seen at home on televi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765920" y="5665680"/>
            <a:ext cx="920880" cy="920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87840" y="274320"/>
            <a:ext cx="499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800000"/>
                </a:solidFill>
                <a:uFillTx/>
                <a:latin typeface="Papyrus"/>
              </a:rPr>
              <a:t>League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609480"/>
            <a:ext cx="3230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8 minor leag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semi-pro te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ching games on tele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ns were in love with home 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5" descr="10150380.jpg"/>
          <p:cNvPicPr/>
          <p:nvPr/>
        </p:nvPicPr>
        <p:blipFill>
          <a:blip r:embed="rId1"/>
          <a:srcRect l="0" t="-23100" r="0" b="-23100"/>
          <a:stretch/>
        </p:blipFill>
        <p:spPr>
          <a:xfrm>
            <a:off x="3687840" y="1600200"/>
            <a:ext cx="499896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728120" y="5802480"/>
            <a:ext cx="645840" cy="645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800000"/>
                </a:solidFill>
                <a:uFillTx/>
                <a:latin typeface="Papyrus"/>
              </a:rPr>
              <a:t>The Game Sta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Content Placeholder 4" descr="1968-m-mantles-535th-19-sept-70.jpg"/>
          <p:cNvPicPr/>
          <p:nvPr/>
        </p:nvPicPr>
        <p:blipFill>
          <a:blip r:embed="rId1"/>
          <a:srcRect l="-5428" t="0" r="-5428" b="0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olen base rates remained 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yle of league 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me runs increa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iples decl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lks decl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ikeouts increa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765920" y="5665680"/>
            <a:ext cx="920880" cy="9208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800000"/>
                </a:solidFill>
                <a:uFillTx/>
                <a:latin typeface="Papyrus"/>
              </a:rPr>
              <a:t>Decades NL MV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Content Placeholder 4" descr="ray-campanella-hof.jpg"/>
          <p:cNvPicPr/>
          <p:nvPr/>
        </p:nvPicPr>
        <p:blipFill>
          <a:blip r:embed="rId1"/>
          <a:srcRect l="-21372" t="0" r="-21372" b="0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648320" y="274680"/>
            <a:ext cx="403848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im Konstanty – 19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y Campanella – 195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nk Sauer – 195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y Campanella - 195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llie Mays - 195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y Campanella - 195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 Newcombe - 195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nk Aaron - 195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nie Banks - 195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nie Banks - 195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1112760" y="5726160"/>
            <a:ext cx="274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Calibri"/>
              </a:rPr>
              <a:t>Roy Campanel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01:04:54Z</dcterms:created>
  <dc:creator>Shelbie Curtis</dc:creator>
  <dc:description/>
  <dc:language>en-US</dc:language>
  <cp:lastModifiedBy>Richland School District</cp:lastModifiedBy>
  <dcterms:modified xsi:type="dcterms:W3CDTF">2010-05-21T14:35:45Z</dcterms:modified>
  <cp:revision>5</cp:revision>
  <dc:subject/>
  <dc:title>Slide 1</dc:title>
</cp:coreProperties>
</file>